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whoosh.wav" ContentType="audio/x-wav"/>
  <Override PartName="/ppt/media/image6.jpeg" ContentType="image/jpeg"/>
  <Override PartName="/ppt/media/applause.wav" ContentType="audio/x-wav"/>
  <Override PartName="/ppt/media/image7.jpeg" ContentType="image/jpeg"/>
  <Override PartName="/ppt/media/image12.png" ContentType="image/png"/>
  <Override PartName="/ppt/media/type.wav" ContentType="audio/x-wav"/>
  <Override PartName="/ppt/media/gunshot.wav" ContentType="audio/x-wav"/>
  <Override PartName="/ppt/media/image1.png" ContentType="image/png"/>
  <Override PartName="/ppt/media/image11.jpeg" ContentType="image/jpeg"/>
  <Override PartName="/ppt/media/image9.jpeg" ContentType="image/jpeg"/>
  <Override PartName="/ppt/media/camera.wav" ContentType="audio/x-wav"/>
  <Override PartName="/ppt/media/image2.png" ContentType="image/png"/>
  <Override PartName="/ppt/media/image10.wmf" ContentType="image/x-wmf"/>
  <Override PartName="/ppt/media/image4.jpeg" ContentType="image/jpeg"/>
  <Override PartName="/ppt/media/image5.jpeg" ContentType="image/jpeg"/>
  <Override PartName="/ppt/media/image3.jpeg" ContentType="image/jpe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27B-C306-4F64-826A-95E9766B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5B0-19F6-477A-BD66-8D50ED37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867-8997-4AE4-9405-BAD80C95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884-D25A-44B1-8705-A024876A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99CD-EEDD-4BAE-99F0-493E183A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11B9-20B7-4F0A-A3E7-CBA19F27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94B5-8A9A-482D-9B3C-8881123F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F1E1-5DAD-421D-974C-81CF0A7A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8DAA-3FEF-4EA8-A31B-18FC3F1D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5B9B-1A1F-4147-92EE-A4519D6E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FDEB-C112-482F-B327-03672960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187-3AFE-43DA-8384-F47EDF3B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9742-DA37-4AC1-8F68-6E7130AE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4784-D6A1-42C9-A765-12B0A413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3A4A-3D2E-4080-A242-BA1321A3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FD00-D89A-406A-B500-F8FDF8CC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7F38-CDDC-4E4D-8F7F-CFF4B386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365-F284-4E5C-B12B-3178A3C6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1C1-299B-4ADA-B61B-D2431965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692-C9FB-408C-A416-50F028B6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E2F-971A-42DA-AAD3-664B023F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4F5-451B-4C58-A612-7A2C67A0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954-E13F-4781-A79A-74E30C13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8E3-89F3-4421-95BC-56DF8F0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22D1-E32E-441E-A6E4-64DDA36A5E12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7FB0-956F-48D5-9515-1CAB13C1640B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wmf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8.xm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A:\章.jpg"/>
          <p:cNvPicPr/>
          <p:nvPr/>
        </p:nvPicPr>
        <p:blipFill>
          <a:blip r:embed="rId1"/>
          <a:stretch/>
        </p:blipFill>
        <p:spPr>
          <a:xfrm>
            <a:off x="1600200" y="838080"/>
            <a:ext cx="2286000" cy="3279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:\邹.jpg"/>
          <p:cNvPicPr/>
          <p:nvPr/>
        </p:nvPicPr>
        <p:blipFill>
          <a:blip r:embed="rId2"/>
          <a:stretch/>
        </p:blipFill>
        <p:spPr>
          <a:xfrm>
            <a:off x="4038480" y="3429000"/>
            <a:ext cx="2286000" cy="247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A:\陈.jpg"/>
          <p:cNvPicPr/>
          <p:nvPr/>
        </p:nvPicPr>
        <p:blipFill>
          <a:blip r:embed="rId3"/>
          <a:stretch/>
        </p:blipFill>
        <p:spPr>
          <a:xfrm>
            <a:off x="6553080" y="914400"/>
            <a:ext cx="22860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6477120" y="3049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" name="Object 3" descr=""/>
          <p:cNvPicPr/>
          <p:nvPr/>
        </p:nvPicPr>
        <p:blipFill>
          <a:blip r:embed="rId2"/>
          <a:stretch/>
        </p:blipFill>
        <p:spPr>
          <a:xfrm flipH="1" rot="10800000">
            <a:off x="609480" y="-360"/>
            <a:ext cx="6100920" cy="66294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 rot="21116400">
            <a:off x="1472400" y="776160"/>
            <a:ext cx="4114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33"/>
                </a:solidFill>
                <a:latin typeface="华文行楷"/>
                <a:ea typeface="华文行楷"/>
              </a:rPr>
              <a:t>我们革命的目的，是为中国谋幸福，因不愿少数满洲专制，故要民族革命；不愿君主一人专制，故要政治革命；不愿少数富人专制，故要社会革命。这三样做不到，也不是我们的本意，达到了这三样目的之后，我们中国将至为完美的国家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  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333333"/>
                </a:solidFill>
                <a:latin typeface="华文行楷"/>
                <a:ea typeface="华文行楷"/>
              </a:rPr>
              <a:t>孙中山 </a:t>
            </a:r>
            <a:r>
              <a:rPr b="0" lang="en-US" sz="24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《</a:t>
            </a:r>
            <a:r>
              <a:rPr b="0" lang="zh-CN" sz="2400" spc="-1" strike="noStrike">
                <a:solidFill>
                  <a:srgbClr val="333333"/>
                </a:solidFill>
                <a:latin typeface="华文行楷"/>
                <a:ea typeface="华文行楷"/>
              </a:rPr>
              <a:t>民报</a:t>
            </a:r>
            <a:r>
              <a:rPr b="0" lang="en-US" sz="24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》</a:t>
            </a:r>
            <a:r>
              <a:rPr b="0" lang="zh-CN" sz="2400" spc="-1" strike="noStrike">
                <a:solidFill>
                  <a:srgbClr val="333333"/>
                </a:solidFill>
                <a:latin typeface="华文行楷"/>
                <a:ea typeface="华文行楷"/>
              </a:rPr>
              <a:t>创刊周年大会上的演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629400" y="1328760"/>
            <a:ext cx="2514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　　按孙中山的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主张怎样建立“至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为完美的国家”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705720" y="3429000"/>
            <a:ext cx="2438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总结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通过进行民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族革命、政治革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命、社会革命建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立资产阶级共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国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2" descr=""/>
          <p:cNvPicPr/>
          <p:nvPr/>
        </p:nvPicPr>
        <p:blipFill>
          <a:blip r:embed="rId1"/>
          <a:stretch/>
        </p:blipFill>
        <p:spPr>
          <a:xfrm flipH="1" rot="10800000">
            <a:off x="1219320" y="114120"/>
            <a:ext cx="6100560" cy="6629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 rot="21195600">
            <a:off x="2127240" y="93132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　　今者中国以千年专制之毒而不解，异族残之，外邦逼之，民族主义、民权主义，殆不可以须臾缓。而民生主义离欧、美所虚积重难返者，中国独受病未深而去之易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……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吾国治民生主义者，发达最先，睹其祸害于未萌，诚可举政治革命、社会革命毕其功于一役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　　－－孙中山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《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民报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》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发刊词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010280" y="6094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AutoShape 5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00200" y="990720"/>
            <a:ext cx="7010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第一，“驱除鞑虏，恢复中华”有两层意思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一是推翻清政府的统治，废除清朝推行的民族歧视和压迫政策；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二是独立，即推翻作为帝国主义走狗的清朝，暗寓了反帝意愿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第二，“创立民国”，有三层意思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一是进行政治革命，推翻帝制；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二是建立资产阶级共和国；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三是防止封建君主制复辟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第三，“平均地权”，孙中山想通过“核定地价”，改变封建土地所有制，实现资产阶级的“土地国有”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AutoShape 3">
            <a:hlinkClick r:id="rId1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3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3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3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3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3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3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3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3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600200" y="1219320"/>
            <a:ext cx="71629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二、革命派与保皇派的论战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１、论战的内容：双方论战的内容虽然涉及多方面，但最根本的分歧还在于政体之争。保皇派主张建立君主立宪制国家，维护清朝的统治，而革命派主张推翻清朝，建立资产阶级共和国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２、论战的作用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第一，革命派在理论上击败了保皇派，占领了思想阵地，保皇派陷入了孤立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第二，是一次资产阶级思想解放运动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3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3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3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3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3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2209680" y="914400"/>
            <a:ext cx="594360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材料１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　　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革命之举，必假借于暴民乱人之力。天下岂有与暴民乱人共享，而能完成者乎？终亦必亡，不过举身家国同葬耳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材料２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　　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革命者，救人救世之圣药也。终古无革命，则终古成长夜矣。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……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吾因爱平和愈爱革命。何也？革命、平和，两相对待；无革命，则亦无平和，腐败而已，苦痛而已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AutoShape 5">
            <a:hlinkClick r:id="" action="ppaction://hlinkshowjump?jump=previousslide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219320" y="685800"/>
            <a:ext cx="7924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　比较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世纪末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世纪初，中国近代所出现的两大论战的异同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　　第一次是指维新派与顽固派的论战；第二次是指革命派与保皇派的论战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　　异：１、第一次论战围绕着改革清朝体制进行，维新派要求兴民权，实行君主立宪政体。第二次论战围绕着要不要推翻清朝政府，革命派明确提出革命手段推翻清王朝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　　２、第一次论战还围绕着文教进行，维新派提出提倡西学，改革教育制度的主张。第二次论战更广泛深刻，革命派不仅提出实行民主政治，还提出改变封建土地制度的革命主张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　　同：两次论战都围绕着要不要实行资产阶级民主政治而展开，都是一次思想的解放潮流；推动了资产阶级民主思想、运动的传播和开展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181160" y="304920"/>
            <a:ext cx="796284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三、革命党人发动的武装起义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１、浙皖、镇南关起义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２、萍浏醴起义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其特点：第一，不同于旧式农民起义，在起义檄文中，包含了“建立共和民国”等资产阶级革命思想，使它成为资产阶级民主革命的一部分；第二，它是同盟会领导的第一次大规模起义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３、黄花岗起义：（本目重点）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起义的影响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091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鼓舞了全国人民的革命斗志，加速了革命发展的进程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091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它扩大了民主革命的影响，使推翻清朝专制统治成为人心所向，为辛亥革命的胜利奠定了基础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091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表现了革命党人勇敢精神和英雄气概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8510760" y="6472080"/>
            <a:ext cx="633240" cy="385920"/>
          </a:xfrm>
          <a:custGeom>
            <a:avLst/>
            <a:gdLst>
              <a:gd name="textAreaLeft" fmla="*/ 24840 w 633240"/>
              <a:gd name="textAreaRight" fmla="*/ 608400 w 63324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35430" h="21600">
                <a:moveTo>
                  <a:pt x="0" y="0"/>
                </a:moveTo>
                <a:lnTo>
                  <a:pt x="35430" y="0"/>
                </a:lnTo>
                <a:lnTo>
                  <a:pt x="35430" y="21600"/>
                </a:lnTo>
                <a:lnTo>
                  <a:pt x="0" y="21600"/>
                </a:lnTo>
                <a:close/>
              </a:path>
              <a:path fill="lightenLess" w="35430" h="21600">
                <a:moveTo>
                  <a:pt x="0" y="0"/>
                </a:moveTo>
                <a:lnTo>
                  <a:pt x="35430" y="0"/>
                </a:lnTo>
                <a:lnTo>
                  <a:pt x="34030" y="1400"/>
                </a:lnTo>
                <a:lnTo>
                  <a:pt x="1400" y="1400"/>
                </a:lnTo>
                <a:close/>
              </a:path>
              <a:path fill="darken" w="35430" h="21600">
                <a:moveTo>
                  <a:pt x="35430" y="0"/>
                </a:moveTo>
                <a:lnTo>
                  <a:pt x="35430" y="21600"/>
                </a:lnTo>
                <a:lnTo>
                  <a:pt x="34030" y="20200"/>
                </a:lnTo>
                <a:lnTo>
                  <a:pt x="34030" y="1400"/>
                </a:lnTo>
                <a:close/>
              </a:path>
              <a:path fill="darkenLess" w="35430" h="21600">
                <a:moveTo>
                  <a:pt x="35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30" y="20200"/>
                </a:lnTo>
                <a:close/>
              </a:path>
              <a:path fill="lighten" w="35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430" h="21600">
                <a:moveTo>
                  <a:pt x="10708" y="3794"/>
                </a:moveTo>
                <a:lnTo>
                  <a:pt x="24721" y="10800"/>
                </a:lnTo>
                <a:lnTo>
                  <a:pt x="10708" y="17806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5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676520" y="376200"/>
            <a:ext cx="689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057400" y="358128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秋瑾：</a:t>
            </a:r>
            <a:r>
              <a:rPr b="0" lang="en-US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(1877~1907),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浙江山阴人，别署鉴湖女侠。</a:t>
            </a:r>
            <a:r>
              <a:rPr b="0" lang="en-US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1904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年赴日本留学，参加反清活动。</a:t>
            </a:r>
            <a:r>
              <a:rPr b="0" lang="en-US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1905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年春再赴日加入同盟会，被推为浙江省主盟人。</a:t>
            </a:r>
            <a:r>
              <a:rPr b="0" lang="en-US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1906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年回国办中国公学、</a:t>
            </a:r>
            <a:r>
              <a:rPr b="0" lang="en-US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《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中国女报</a:t>
            </a:r>
            <a:r>
              <a:rPr b="0" lang="en-US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》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、提倡女权。其后回绍兴主持大通学堂，与徐锡麟分头准备皖、浙起义。</a:t>
            </a:r>
            <a:r>
              <a:rPr b="0" lang="en-US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1907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年起义失败被捕。在审讯中秋瑾坚贞不屈，仅书</a:t>
            </a:r>
            <a:r>
              <a:rPr b="0" lang="zh-CN" sz="2000" spc="-1" strike="noStrike">
                <a:solidFill>
                  <a:srgbClr val="333333"/>
                </a:solidFill>
                <a:latin typeface="Arial Narrow"/>
                <a:ea typeface="华文新魏"/>
              </a:rPr>
              <a:t>“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秋风秋雨秋煞人</a:t>
            </a:r>
            <a:r>
              <a:rPr b="0" lang="zh-CN" sz="2000" spc="-1" strike="noStrike">
                <a:solidFill>
                  <a:srgbClr val="333333"/>
                </a:solidFill>
                <a:latin typeface="Arial Narrow"/>
                <a:ea typeface="华文新魏"/>
              </a:rPr>
              <a:t>”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七字，并说</a:t>
            </a:r>
            <a:r>
              <a:rPr b="0" lang="zh-CN" sz="2000" spc="-1" strike="noStrike">
                <a:solidFill>
                  <a:srgbClr val="333333"/>
                </a:solidFill>
                <a:latin typeface="Arial Narrow"/>
                <a:ea typeface="华文新魏"/>
              </a:rPr>
              <a:t>“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革命党人不怕死，欲杀便杀</a:t>
            </a:r>
            <a:r>
              <a:rPr b="0" lang="zh-CN" sz="2000" spc="-1" strike="noStrike">
                <a:solidFill>
                  <a:srgbClr val="333333"/>
                </a:solidFill>
                <a:latin typeface="Arial Narrow"/>
                <a:ea typeface="华文新魏"/>
              </a:rPr>
              <a:t>”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。</a:t>
            </a:r>
            <a:r>
              <a:rPr b="0" lang="en-US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7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月</a:t>
            </a:r>
            <a:r>
              <a:rPr b="0" lang="en-US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15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日清晨</a:t>
            </a:r>
            <a:r>
              <a:rPr b="0" lang="en-US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4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时就义于绍兴轩亭口。她在</a:t>
            </a:r>
            <a:r>
              <a:rPr b="0" lang="zh-CN" sz="2000" spc="-1" strike="noStrike">
                <a:solidFill>
                  <a:srgbClr val="333333"/>
                </a:solidFill>
                <a:latin typeface="Arial Narrow"/>
                <a:ea typeface="华文新魏"/>
              </a:rPr>
              <a:t>“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绝笔书</a:t>
            </a:r>
            <a:r>
              <a:rPr b="0" lang="zh-CN" sz="2000" spc="-1" strike="noStrike">
                <a:solidFill>
                  <a:srgbClr val="333333"/>
                </a:solidFill>
                <a:latin typeface="Arial Narrow"/>
                <a:ea typeface="华文新魏"/>
              </a:rPr>
              <a:t>”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中写道</a:t>
            </a:r>
            <a:r>
              <a:rPr b="0" lang="zh-CN" sz="2000" spc="-1" strike="noStrike">
                <a:solidFill>
                  <a:srgbClr val="333333"/>
                </a:solidFill>
                <a:latin typeface="Arial Narrow"/>
                <a:ea typeface="华文新魏"/>
              </a:rPr>
              <a:t>“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虽死犹生，牺牲尽我责任；即此永别，风潮取彼头颅。</a:t>
            </a:r>
            <a:r>
              <a:rPr b="0" lang="zh-CN" sz="2000" spc="-1" strike="noStrike">
                <a:solidFill>
                  <a:srgbClr val="333333"/>
                </a:solidFill>
                <a:latin typeface="Arial Narrow"/>
                <a:ea typeface="华文新魏"/>
              </a:rPr>
              <a:t>”</a:t>
            </a: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表现了革命党人可贵的革命品质。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8" descr="A:\秋.jpg"/>
          <p:cNvPicPr/>
          <p:nvPr/>
        </p:nvPicPr>
        <p:blipFill>
          <a:blip r:embed="rId1"/>
          <a:stretch/>
        </p:blipFill>
        <p:spPr>
          <a:xfrm>
            <a:off x="4038480" y="434880"/>
            <a:ext cx="2286000" cy="29941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9">
            <a:hlinkClick r:id="" action="ppaction://hlinkshowjump?jump=previousslide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95280" y="533520"/>
            <a:ext cx="76201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萍浏醴起义：又称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丙午萍浏之役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是同盟会策动的江西萍乡、湖南浏阳、醴陵地区会党和矿工的武装起义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　　当时湖南灾情严重，米价飞涨，民不堪命。</a:t>
            </a:r>
            <a:r>
              <a:rPr b="0" lang="en-US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1906</a:t>
            </a:r>
            <a:r>
              <a:rPr b="0" lang="zh-CN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年同盟会总部派会员刘道一、蔡绍南从日本回到湖南运动军队、联络会党，宣传同盟会的纲领，拟于丙午年（</a:t>
            </a:r>
            <a:r>
              <a:rPr b="0" lang="en-US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1906</a:t>
            </a:r>
            <a:r>
              <a:rPr b="0" lang="zh-CN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年）农历年底乘清吏封印时分三路起义。后因消息泄露，龚春台遂于</a:t>
            </a:r>
            <a:r>
              <a:rPr b="0" lang="en-US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12</a:t>
            </a:r>
            <a:r>
              <a:rPr b="0" lang="zh-CN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月初在江西萍乡率众起义。旬日之内，萍乡、醴陵、浏阳等地群众纷起响应。参加者除农民外，还有手工业工人及部分防营士兵，在萍乡方面则多属煤矿工人。起义军推举龚春台为都督，发布中华国民军起义檄文，以同盟会的政纲为号召，声讨清政府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十大罪恶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宣布破除数千年之专制政体，建立共和民国，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使地权与民权平均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得到群众拥护。数日内起义军增至三万余人，屡败清军。清政府调集湘、鄂、赣及江宁（今南京）军队数万人进行镇压，起义军因分散作战而失败。刘道一、蔡绍南等先后被捕牺牲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Object 2" descr=""/>
          <p:cNvPicPr/>
          <p:nvPr/>
        </p:nvPicPr>
        <p:blipFill>
          <a:blip r:embed="rId1"/>
          <a:stretch/>
        </p:blipFill>
        <p:spPr>
          <a:xfrm flipH="1" rot="10800000">
            <a:off x="685800" y="228240"/>
            <a:ext cx="6100920" cy="66294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 rot="21195000">
            <a:off x="1636200" y="10018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　是役也，碧血横飞，浩气四塞，草木为之含悲，风云因而变色，全国久蜇之人心，乃大兴奋，怨恨所积，如怒涛排壑，不可遏止，不半载而武昌之大革命以成，则期役之价值，直惊天地、泣鬼神，与武昌革命之役并寿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　　－－孙中山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《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黄花岗烈士事略序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6762600" y="533520"/>
            <a:ext cx="23814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981080" y="1752480"/>
            <a:ext cx="6553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资产阶级民主革命思想在中国得到广泛传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播；资产阶级革命团体纷纷建立，标志着资产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阶级革命派正式形成。而各革命团体分散的起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义先后失败的事实，使资产阶级革命派认识到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建立一个全国性的统一的革命组织已经十分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要和迫切了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2209680" y="609480"/>
            <a:ext cx="152424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教师总结：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2286000" y="160020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091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明确：这次起义是同盟会领导的诸次起义中有充分准备的一次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孙中山作了三项准备工作：首先他到欧美华侨中募款，支援起义；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其次，在香港成立起义领导机关－－统筹会；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另外组织了“敢死队”作为中坚力量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981080" y="457200"/>
            <a:ext cx="64771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小结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本课我们主要学习了同盟会的成立及其政治纲领三民主义，革命派与保皇派的论战，革命党人发动的武装起义，这说明革命党人通过政治、思想、军事方面的准备和实践，极大地推动了革命形势的发展，中国资产阶级民主革命的高潮－－辛亥革命即将到来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981080" y="38862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思考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以孙中山为代表的资产阶级革命党人制定的兴中会纲领、同盟会纲领其主要内容是什么？比较其异同，同盟会又是怎样发展了其理论？各对中国社会的影响是什么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2286000" y="1676520"/>
            <a:ext cx="6400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同盟会的建立和革命形势的发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657600" y="3657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华文行楷"/>
              </a:rPr>
              <a:t>主讲人：杨君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00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一、同盟会的建立及其政治纲领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52480" y="1523880"/>
            <a:ext cx="495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、同盟会的建立：（本节重点）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981080" y="2057400"/>
            <a:ext cx="678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原因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828800" y="2743200"/>
            <a:ext cx="701028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09142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资产阶级革命思想的广泛</a:t>
            </a:r>
            <a:r>
              <a:rPr b="0" lang="zh-CN" sz="2400" spc="-1" strike="noStrike" u="sng">
                <a:solidFill>
                  <a:srgbClr val="ae4828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传播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09142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资产阶级革命团体的广泛建立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09142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资产阶级阶级革命队伍的壮大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09142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分散起义的先后失败，使建立统一的革命组织          成为革命党人的共识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09142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孙中山个人的作用等等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981080" y="6019920"/>
            <a:ext cx="2286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建立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3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3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3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3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A:\报刊.jpg"/>
          <p:cNvPicPr/>
          <p:nvPr/>
        </p:nvPicPr>
        <p:blipFill>
          <a:blip r:embed="rId1"/>
          <a:stretch/>
        </p:blipFill>
        <p:spPr>
          <a:xfrm>
            <a:off x="1905120" y="1622520"/>
            <a:ext cx="6858000" cy="36115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>
            <a:hlinkClick r:id="" action="ppaction://hlinkshowjump?jump=previousslide"/>
          </p:cNvPr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A:\示意图.jpg"/>
          <p:cNvPicPr/>
          <p:nvPr/>
        </p:nvPicPr>
        <p:blipFill>
          <a:blip r:embed="rId1"/>
          <a:stretch/>
        </p:blipFill>
        <p:spPr>
          <a:xfrm>
            <a:off x="1905120" y="-304920"/>
            <a:ext cx="6804000" cy="75438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>
            <a:hlinkClick r:id="rId2" action="ppaction://hlinksldjump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A:\民报.jpg"/>
          <p:cNvPicPr/>
          <p:nvPr/>
        </p:nvPicPr>
        <p:blipFill>
          <a:blip r:embed="rId1"/>
          <a:stretch/>
        </p:blipFill>
        <p:spPr>
          <a:xfrm>
            <a:off x="1676520" y="990720"/>
            <a:ext cx="2803320" cy="365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A:\孙中山.jpg"/>
          <p:cNvPicPr/>
          <p:nvPr/>
        </p:nvPicPr>
        <p:blipFill>
          <a:blip r:embed="rId2"/>
          <a:stretch/>
        </p:blipFill>
        <p:spPr>
          <a:xfrm>
            <a:off x="5105520" y="914400"/>
            <a:ext cx="3413160" cy="54100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7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295280" y="45720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同盟会的</a:t>
            </a:r>
            <a:r>
              <a:rPr b="0" lang="zh-CN" sz="24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性质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与作用：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752480" y="1143000"/>
            <a:ext cx="6629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中国同盟会是资产阶级革命政党，它的成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标志着中国资产阶级民主革命进入一个</a:t>
            </a:r>
            <a:r>
              <a:rPr b="0" lang="zh-CN" sz="24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新阶段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295280" y="2362320"/>
            <a:ext cx="762012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、同盟会的政纲</a:t>
            </a:r>
            <a:r>
              <a:rPr b="0" lang="zh-CN" sz="24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三民主主义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091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识记政纲：驱除鞑虏，恢复中华，创立民国，平均地权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091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理解</a:t>
            </a:r>
            <a:r>
              <a:rPr b="0" lang="zh-CN" sz="24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涵义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091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三民主义，即“民族”、“民权”、“民生”三大主义。　　　　是孙中山对政纲的展开表述与完善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作为领导革命的　　指导思想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其中，民权主义是核心，目标是建立资产阶级共和国，它是民主革命的首要任务，民族主义是前提，民生主义是补充和发展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AutoShape 5">
            <a:hlinkClick r:id="rId5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057400" y="228600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为什么说同盟会的成立标志着资产阶级民主革命进入了一个新阶段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１、有了正规的统一政党领导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２、有了明确的革命纲领，三民主义是比较完整的资产阶级民主革命纲领，表达了资产阶级在政治上和经济上的要求，推动了资产阶级民主革命运动的发展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３、有了公认的民主革命的领袖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WordArt 3"/>
          <p:cNvSpPr txBox="1"/>
          <p:nvPr/>
        </p:nvSpPr>
        <p:spPr>
          <a:xfrm>
            <a:off x="1981080" y="95256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思考：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AutoShape 4">
            <a:hlinkClick r:id="rId1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09:59:57Z</dcterms:created>
  <dc:creator>xlm</dc:creator>
  <dc:description/>
  <dc:language>en-US</dc:language>
  <cp:lastModifiedBy>Users</cp:lastModifiedBy>
  <dcterms:modified xsi:type="dcterms:W3CDTF">2017-10-30T22:38:14Z</dcterms:modified>
  <cp:revision>9</cp:revision>
  <dc:subject/>
  <dc:title>PowerPoint 演示文稿</dc:title>
</cp:coreProperties>
</file>